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56A-AA0B-4554-BDD4-C48F39A4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897-3E5A-4EA5-B8DB-323F8F63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491-E534-48AA-88DB-9FCF6ED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A60-194F-4B0A-A999-EA1E6E12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66CB-AFCB-4523-A479-628E31C2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BA2E-95A2-4A97-82A6-F81A8924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93A5-CC2C-40EB-8288-3446B00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6E33-5DD6-46BC-B925-12B11A37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49DA-9482-4B36-B921-2E46446D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4375-0E45-4B64-8D61-5AAC47D9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44B-D630-472C-BF2C-5C927BD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B6A-35D6-445A-94E9-B609A4E7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339-9FBD-4684-89A1-A93CDCD0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0CCA-0932-4FA7-8B82-4A177E7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65F-5CD8-45ED-8194-6989C60A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DDFD-A8C1-45E6-8501-3A171EDC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79F-77DD-4DCD-89F7-B310346B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994-B670-4ABE-9E0B-1D7FF4A5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13F-F8D4-446C-A71C-214A018A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81F-B3CE-4FB8-9F19-61034FB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A41-0C94-4D60-B6FC-1DD3055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E14-5FCD-4C55-B049-009722D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415-B168-4490-B4D4-D3D968D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226-082C-409F-B04E-395019D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396B-C9F7-4558-BAAF-C222269EBB9E}" type="slidenum"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3150-A93D-4921-9E4D-A4D43223A91E}" type="slidenum"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2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2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Činitelji poslovanja i mjerila uspješnosti poslovanj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r. sc. Dalibor Pudić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08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Vrijednost učinaka i troškova se može izraziti po </a:t>
            </a:r>
            <a:r>
              <a:rPr b="0" i="1" lang="hr-HR" sz="2000" spc="-1" strike="noStrike">
                <a:solidFill>
                  <a:srgbClr val="545472"/>
                </a:solidFill>
                <a:latin typeface="Times New Roman"/>
              </a:rPr>
              <a:t>stvarnim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tekućim) i </a:t>
            </a:r>
            <a:r>
              <a:rPr b="0" i="1" lang="hr-HR" sz="2000" spc="-1" strike="noStrike">
                <a:solidFill>
                  <a:srgbClr val="545472"/>
                </a:solidFill>
                <a:latin typeface="Times New Roman"/>
              </a:rPr>
              <a:t>stalnim cijenama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enje ekonomičnosti na temelju stvarnih cije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enje ekonomičnosti ima naglašeno vrijednosno obilježje jer se ekonomičnost ne mijenja samo zbog utjecaja promjene količine učinaka i utrošaka elemenata radnog procesa nego i pod utjecajem promjene cije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stignuti stupanj ekonomičnosti ne mora biti rezultat samo unutrašnjih napora radnika nego i rezultat utjecaja tržiš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C=ostvareni učinci x tekuće cijen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=utrošeni elementi x tekuće cijen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Vrijednosno izražena ekonomičnost predstavlja odnos između prihoda i troškov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492360" y="4076640"/>
                <a:ext cx="1079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enje ekonomičnosti na temelju stalnih cije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enje ekonomičnosti sadržava oznaku količinskog mjerenja jer se isključuje utjecaj bilo kakve promjene cijena na međusobni odnos vrijednosti učinaka i troškov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ekonomičnosti može poslužiti kao realna informacija za sagledavanje stupnja unutrašnjih napora radnika u ostvarivanju ekonomije poslovanja poduzeća i njegovih organizacijskih dijelov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akvo mjerenje ekonomičnosti pruža podatke o štedljivom (ekonomičnom) korištenju elemenata radnog proces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ako izražena ekonomičnost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˝pruža sliku napora radnika u odnosu na prethodni period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˝služi za provjeravanje planskih zadataka poduzeća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1989000"/>
                <a:ext cx="403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uč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ta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jen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trošen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ment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ta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jen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enje ekonomičnosti pojedinih elemenata radnog procesa, dijelova poduzeća i učinak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sebno značenje za ostvarenje veće ekonomičnosti ima parcijalno mjerenje ekonomič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tom treba imati u vidu da je ukupni rezultat učinak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Više elemenata radnog procesa (rada, predmeta rada, sredstava za rad, tuđih usluga),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Više organizacijskih jedinica (pogoni, sektori, odjeli i sl.),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Različitog asortimana učinaka (različite usluge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z toga slijedi da se ekonomičnost može mjeriti parcijalno, i to posebno za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Trošenje pojedinih elemenata radnog proces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jedine organizacijske jedinice, poslovne funkcije, pogone i sl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jedine učink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enjem djelomične ekonomičnosti će se dobiti podrobnije obavijesti o vođenju poslovne politik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a temelju izračunatih koeficijenata ekonomičnosti poduzeće može na vrijeme poduzeti mjere za otklanjanje eventualne slab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765000"/>
            <a:ext cx="80629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imes New Roman"/>
              </a:rPr>
              <a:t>RENTABILNO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dnos poslovnog rezultata odnosno profita i uloženog kapital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rihodi &gt; rashoda = dobit </a:t>
            </a:r>
            <a:r>
              <a:rPr b="0" lang="hr-HR" sz="1800" spc="-1" strike="noStrike">
                <a:solidFill>
                  <a:srgbClr val="545472"/>
                </a:solidFill>
                <a:latin typeface="Wingdings"/>
                <a:ea typeface="Wingdings"/>
              </a:rPr>
              <a:t></a:t>
            </a: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 poslovanje rentabilno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rihodi &lt; rashoda = gubitak </a:t>
            </a:r>
            <a:r>
              <a:rPr b="0" lang="hr-HR" sz="1800" spc="-1" strike="noStrike">
                <a:solidFill>
                  <a:srgbClr val="545472"/>
                </a:solidFill>
                <a:latin typeface="Wingdings"/>
                <a:ea typeface="Wingdings"/>
              </a:rPr>
              <a:t></a:t>
            </a: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slovanje nerentabilno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a vlasnika hotelskog poduzeća manje je značajan proizvod koji se proizvodi u poduzeću (usluge smještaja, prehrane i točenja pića) od poslovnog rezultata, jer je poslovni rezultat za njega jedina realnost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entabilnost je različita od poduzeća do poduzeća u okviru iste grane, različita između grana i djelatnosti, a i među nacionalnim privredama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Vlasnici kapitala na slobodnom financijskom tržištu kupuju dionice onih poduzeća od kojih se očekuje da će osigurati veću dividendu i tako usmjeravaju postojeći i reinvestiraju novostvoreni kapital u rentabilnija poduzeća, gran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 tom smislu načelo rentabilnosti predstavlja zahtjev po kojem treba raspoloživim kapitalom postići maksimalno mogući poslovni rezulta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entabilnost poslovanja može se izraziti ovom formulo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059280" y="5734080"/>
                <a:ext cx="2881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ntabilnost 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ofit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uloženi kapital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000" y="762120"/>
            <a:ext cx="8351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obiveni koeficijent pokazuje koliko se jedinica poslovnog rezultata ostvari na jedinicu uloženog kapital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 mjerenju rentabilnosti, kao uloženi kapital može se uzeti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Times New Roman"/>
              </a:rPr>
              <a:t>Vlastiti kapital </a:t>
            </a: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duzeća, tj kapital za koji ne postoji obveza vraćanj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Times New Roman"/>
              </a:rPr>
              <a:t>Sredstva poduzeća, </a:t>
            </a: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tj. prosječna vrijednost uloženih sredstava koja su iskorištena za ostvarivanje poslovnog rezultata, a njima pripadaju : osnovna sredstva, obrtna sredstva te dugoročna i kratkoročna financijska ulaganj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a stajališta rentabilnosti vlastitog kapitala, kao poslovni rezultat može se upotrijebiti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dobitak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čisti dobitak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a stajališta rentabilnosti sredstva poduzeća, kao poslovni rezultat može se upotrijebiti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Dobitak uvećan za kamate dane drugima za korištenje tuđeg kapital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Ostatak dobitka uvećan za kamate dane drugima za korištenje tuđeg kapital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556000" y="3141720"/>
                <a:ext cx="3968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tabilnost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obitak 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čni vlastiti kapital 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rentabilnost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isti dobitak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Č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čni vlastiti kapital 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20680" y="2637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a rentabilnost vlastitog kapital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4280" y="66996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Formule za izračunavanje rentabilnosti su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8440" y="4292640"/>
            <a:ext cx="37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a rentabilnost sredstava poduzeć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835280" y="4724280"/>
                <a:ext cx="60134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ntabilno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redsta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obita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amate dane drugima za korištenje tuđeg kapital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čna sredstva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35280" y="5589720"/>
                <a:ext cx="60134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ntabilno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redsta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čisti dobita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amate dane drugima za korištenje tuđeg kapital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osječna sredstva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95280" y="10526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 mjerenju rentabilnosti umjesto koeficijenta uzima se stopa, jer ona se lakše uspoređuje s kamatnom stopom pa se dobije jasnija predodžba o uspješnosti poslovanja poduzeć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topa rentabilnosti poduzeća &lt; bankovne stope</a:t>
            </a:r>
            <a:r>
              <a:rPr b="0" lang="hr-HR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kapital nije dobro ulož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imes New Roman"/>
              </a:rPr>
              <a:t>MJERILA USPJEŠNOSTI POSLOVANJ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likvid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zaduže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aktiv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ekonomič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profitabil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investir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Altamanov z pokazatelj financijske nesigur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EMELJNI FINANCIJSKI IZVJEŠTAJ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Bilanc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ačun dobiti i gubitak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zvještaj o novčanom tok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zvještaj o promjenama vlasničke glavni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Bilješke uz financijske izvješta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BILANC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kaz imovine, obveza i kapitala na određeni da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azuje na financijski položaj tj. na sigurnost poslovanja poduzeć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MOVINA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Resurs pod kontrolom poduzeć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roizlazi iz prošlih događaj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Od nje se očekuje buduća ekonomska koris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BVEZ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stojeći dugovi proizašli iz prošlih događaj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Uzrokuju odljev resursa (podmirenje obveza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APITAL (GLAVNICA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Ostatak imovine nakon podmirenja obvez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71720" y="719280"/>
            <a:ext cx="70005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314360" y="1042920"/>
            <a:ext cx="65152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207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imes New Roman"/>
              </a:rPr>
              <a:t>U činitelje poslovanja spadaju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a) činitelji proizvodnosti rada i ekonomič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b) činitelji rentabil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imes New Roman"/>
              </a:rPr>
              <a:t>Činitelji proizvodnosti rada i ekonomičnost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888ae"/>
                </a:solidFill>
                <a:latin typeface="Times New Roman"/>
              </a:rPr>
              <a:t>PRIRODNI ČINITELJI: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olaze do izražaja u nekim područjima privrede, i to u ribarstvu, proizvodnji elektroenergije, poljoprivredi itd.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tjecaj tih činitelja dolazi do većeg izražaja u ekonomič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888ae"/>
                </a:solidFill>
                <a:latin typeface="Times New Roman"/>
              </a:rPr>
              <a:t>TEHNIČKI ČINITELJI: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tupanj razvoja i primjene mehanizacije, automatizacije, robotizacije i specijalizacije u proizvodnj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888ae"/>
                </a:solidFill>
                <a:latin typeface="Times New Roman"/>
              </a:rPr>
              <a:t>LJUDSKI ČINITELJI</a:t>
            </a:r>
            <a:r>
              <a:rPr b="0" lang="hr-HR" sz="2000" spc="-1" strike="noStrike">
                <a:solidFill>
                  <a:srgbClr val="9595ff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u: kvalifikacijska struktura, međuljudski odnosi, intenzitet rada, raspodjela plaća prema rezultatima rada, kadrovska politik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888ae"/>
                </a:solidFill>
                <a:latin typeface="Times New Roman"/>
              </a:rPr>
              <a:t>DRUŠTVENI ČINITELJI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u: tržište, mjere ekonomske politik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888ae"/>
                </a:solidFill>
                <a:latin typeface="Times New Roman"/>
              </a:rPr>
              <a:t>ORGANIZACIJSKI ČINITELJI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su: podjela rada,  priprema rada, radni uvjeti, zaštita na radu, poslovna udruži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AČUN DOBITI I GUBITK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emeljni financijski izvještaj koji prikazuje prihode, rashode, i financijski rezultat u određenom obračunskom razdoblj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azuje na uspješnost poslo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hodi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većanje ekonomske korist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većanje imovine, smanjenje obvez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ashod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Smanjenje ekonomske korist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Smanjenje imovine, povećanje obvez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Financijski rezultat= prihodi-rashodi (dobit ili gubitak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Utjecaj na visinu kapitala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76240" y="795240"/>
            <a:ext cx="55915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ZVJEŠTAJ O NOVČANOM TOK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kazuje primitke i izdatke novca i novčanih ekvivalenata u određenom vremenskom razdoblj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kazuje izvore i upotrebu novc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snovni elementi: primici, izdaci, čisti novčani tok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ZVJEŠTAJ O PROMJENAMA VLASNIČKE GLAVNI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kazuje promjene na svim pozicijama kapital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Neto dobi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Dodatna ulaganja vlasnik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Visinu izglasanih dividend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Revalorizacijske rezerv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romjene računovodstvenih politik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likvid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trenutne likvid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ovac/kratkoročne obvez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ubrzane likvid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novac+potraživanja)/kratkoročne obvez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tekuće likvid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ratkotrajna imovina/ kratkoročne obvez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financijske stabil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ugotrajna imovina/(kapital+dugoročne obveze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zaduže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zaduže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upne obveze/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vlastitog financir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glavnica/ 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riće troškova kama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dobit prije poreza+kamate)/kama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Faktor zaduže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upne obveze/zadržana dobit i amortizaci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tupanj pokrić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glavnica+dugoročne obveze)/dugotraj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aktiv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obrta ukupne imovin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upan prihod/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obrta kratkotrajne imovin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upni prihod/kratkotraj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oeficijent obrta potraži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hodi od prodaje/potraži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rajanje naplate potraži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360/koeficijent obrta potraži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ekonomič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konomičnost ukupnog poslo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upni prihodi / ukupni rashod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konomičnost proda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ihodi od prodaje / rashodi proda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konomičnost financir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financijski prihodi / financijski rashod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konomičnost izvanrednih aktiv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zvanredni prihodi / izvanredni rashod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profitabil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eto marža profi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neto dobit+kamate)/ ukupni priho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Bruto marža profi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dobit prije poreza+kamate)/ ukupni priho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eto rentabilnost imovin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neto dobit+kamate)/ 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Bruto rentabilnost imovin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(dobit prije poreza+kamate)/ 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entabilnost vlastitog kapital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eto dobit / vlastiti kapita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kazatelj investir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obit (zarada) po dionic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eto dobit / broj dionic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ividenda po dionic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io neto dobiti za dividende / broj dionic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dnos isplate dividend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ividenda po dionici / dobit po dionic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kupna rentabilnost dioni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obit po dionici / tržišna cijena dioni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ividendna rentabilnost dioni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ividenda po dionici / tržišna cijena dioni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Altamanov “z” pokazatelj financijske nesigur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=1,2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+1,4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+3,3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+0,6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4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+1,0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=(tekuća imovina-tekuće obveze)/ ukupne obvez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=zadržani dobici / 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=(neto dobit+kamate+porez)/ 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4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=tržišna vrijednost dionica / ukupne obvez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hr-HR" sz="1000" spc="-1" strike="noStrike">
                <a:solidFill>
                  <a:srgbClr val="545472"/>
                </a:solidFill>
                <a:latin typeface="Times New Roman"/>
              </a:rPr>
              <a:t>5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=neto prodaja /ukupna imovi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&lt;1     financijske teškoć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1&lt;Z&lt;3    siva zon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&gt;3    zdravo (stabilno) poduzeć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imes New Roman"/>
              </a:rPr>
              <a:t>Činitelji rentabilnost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brzina obrtaja sredstav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iskorištavanje osnovnih sredstav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ržavne kreditne i fiskalne politik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azina financijskih i izvanrednih prihod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razina financijskih i izvanrednih rashod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imes New Roman"/>
              </a:rPr>
              <a:t>PROIZVODNOST RAD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dnos količine učinaka i bilo kojeg elementa koji sudjeluje u procesu proizvodnje (proizvodnost radne snage, proizvodnost kapitala, predmeta rada, opreme... 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dnos između ostvarene količine učinaka i količine ljudskog rada upotrijebljenog za njeno ostvarenje (zapravo efikasnost korištenja ljudskog rada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 svim zemljama ima veliko značen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60840" indent="-51732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nerazvijene zemlje nastoje se izvući iz vjekovne zaostalosti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60840" indent="-517320" algn="just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razvijene nastoje zadržat svoju konkurentsku sposobnost i tako očuvati svoj dominantan položaj na svjetskom tržištu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a povećanje proizvodnosti rada djeluje, osim radnika, i stupanj tehničke opremljenosti. (npr. korištenje numerički kontroliranih alatnih strojeva i industrijskih robota dovodi do neslućenog porasta proizvodnosti tekućeg rada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oizvodnost rada može se povećati i smanjivanjem proizvodnje, što može biti neprihvatljivo sa šireg društvenog interesa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pr. kada se neki rudnik siromašan rudom zatvori iako je prisutna potreba za dotičnom kovinom na domaćem tržištu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zitivni učinci proizvodnosti rada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edstavlja temeljni način povećanja osobnih primanja, što ima bitan utjecaj na kupovnu moć pučanstv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jeluje protuinflacijski jer smanjuje troškove proizvodn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manjuje cijenu koštanja po jedinici proizvoda, pa značajno utječe na konkurentsku sposobnost na domaćem i stranom tržištu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ENJE PROIZVODNOSTI RAD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ehnika ovisi o razini za koju proizvodnost rada izračunavam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a izračunavanje proizvodnosti rada potrebno je poznavati količinu učinaka i rada pa se proizvodnost rada može izračunati na dva načina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a se stavi u odnos količina učinaka i rada (izdašnost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da se stavi u odnos količina rada i ostvareni učinci (štedljivost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oizvodnost rada može se povećati tako što će se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545472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Povećati broj učinaka po jedinici rad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545472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Smanjiti količina rada po jedinici učink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oizvodnost rada (izdašnost)= Količina učinaka (Q)/ količina rada (T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oizvodnost rada (štedljivost) = Količina rada (T)/ količina učinaka (Q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3635280" y="4292640"/>
            <a:ext cx="865440" cy="69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3635280" y="5445000"/>
            <a:ext cx="971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4920" y="762120"/>
            <a:ext cx="8596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OIZVODNJA KAO ELEMENT ZA MJERENJE PROIZVIDNOSTI RAD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roizvodnja poduzeća najčešće nije sastavljena od istovrsnih učinaka, pa se oni ne mogu zbrajati. To čini jedan od najkrupnijih problema pri mjerenju proizvodnosti rada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a izračunavanje u teoriji i praksi najčešće se primjenjuju ove metode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Čista naturalna metoda (za jedan proizvod iste kvalitete-mjere -kg, m, l, kWh,...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Naturalno-uvjetna metoda (za više srodnih proizvoda različite kvalitete,izgleda,.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Radna metoda (u složenoj proizvodnji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45472"/>
                </a:solidFill>
                <a:latin typeface="Times New Roman"/>
              </a:rPr>
              <a:t>Vrijednosna (novčana) metod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762120"/>
            <a:ext cx="8353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imes New Roman"/>
              </a:rPr>
              <a:t>EKONOMIČNO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dnos između ostvarenih učinaka i količine rada, predmeta rada, sredstava za rad i tuđih usluga potrebnih za njihovo ostvaren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Zo je stupanj štedljivosti u ostvarivanju učinaka, a izražava se kroz odnos između outputa i inpu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timuliraju se poduzeća da ostvare ciljeve poslovanja uz što manje troškov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trebno je mjeriti udio pojedinih elemenata na ekonomičnost poslovanj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ajbolji se učinak postiže optimalnom kombinacijom svih elemena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pr: u praksi se ljudski rad često zamjenjuje strojnim, što uvjetuje smanjenje troškova rada (plaće radnika) i povećanje troškova sredstava za rad (amortizacija, održavanje i osiguranje sredstava i sl.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 ekonomičnom poslovanju se može govoriti samo onda ako je ostvareni učinak rezultat ekonomičnog trošenja sredstava za rad, predmeta rada, tuđih usluga i racionalnog raspolaganja s radnom snagom i ako postoji mogućnost za realizaciju (tj. prodaju ili stavljanje u upotrebu) ostvarene proizvodn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9898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jerilo uspješnosti poslovanja koje se izražava kroz odnos ostvarenih učinaka i količine rada, predmeta rada, sredstva za rad i tuđih usluga potrebnih za njihovo ostvaren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imes New Roman"/>
              </a:rPr>
              <a:t>e = ukupni prihod / ukupni troškov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&gt; 1 poslovanje je ekonomičn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 &lt; 1 poslovanje je neekonomičn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= 1 poslovanje na granici ekonomičn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Može se koristiti i formula recipročne ekonomičnosti tj. štedljivost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ada izračunati koeficijent znači stupanj štedljivosti ili prosječni utrošak elemenata radnog procesa po jedinici učink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- utrošeni elementi radnog proces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Q- ostavreni učinc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627280" y="1989000"/>
            <a:ext cx="1219320" cy="66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00360" y="4869000"/>
                <a:ext cx="10796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207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Ekonomičnost se može mjeriti vrijednosnim pokazateljim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aturalno iskazani učinci i utrošak elemenata radnog procesa preračunavaju se iz naturalnog u vrijednosni izraz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To se čini odgovarajućim cijenam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Kada se učinci i utrošci množe sa cijenama, umjesto učinaka se dobije </a:t>
            </a:r>
            <a:r>
              <a:rPr b="0" i="1" lang="hr-HR" sz="2000" spc="-1" strike="noStrike">
                <a:solidFill>
                  <a:srgbClr val="545472"/>
                </a:solidFill>
                <a:latin typeface="Times New Roman"/>
              </a:rPr>
              <a:t>vrijednost proizvodnje</a:t>
            </a: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, a umjesto utrošaka elemenata radnog procesa- </a:t>
            </a:r>
            <a:r>
              <a:rPr b="0" i="1" lang="hr-HR" sz="2000" spc="-1" strike="noStrike">
                <a:solidFill>
                  <a:srgbClr val="545472"/>
                </a:solidFill>
                <a:latin typeface="Times New Roman"/>
              </a:rPr>
              <a:t>troškov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80000"/>
              <a:buFont typeface="Times New Roman"/>
              <a:buChar char="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stvareni učinci x cijene=vrijednost proizvodnj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545472"/>
              </a:buClr>
              <a:buSzPct val="80000"/>
              <a:buFont typeface="Times New Roman"/>
              <a:buChar char="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utrošeni elementi radnog procesa x cijena=troškovi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većanje se ekonomičnosti može postići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Povećanjem količine učinaka uz nepromijenjene troškov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Ostvarenjem većih prodajnih cijena proizvoda i uslug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Smanjenjem količine elemenata radnog procesa (smanjenje kvara, loma, rasipa materijala i sl.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545472"/>
                </a:solidFill>
                <a:latin typeface="Times New Roman"/>
              </a:rPr>
              <a:t>Nižim nabavnim cijenama elemenata radnog proces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87280" y="1989000"/>
                <a:ext cx="33134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rijedno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izvodnj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oškov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03640" y="1989000"/>
                <a:ext cx="3451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oškovi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rijedno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izvodnj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08-05-18T23:10:51Z</dcterms:modified>
  <cp:revision>53</cp:revision>
  <dc:subject/>
  <dc:title>PowerPoint Presentation</dc:title>
</cp:coreProperties>
</file>